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ct" ContentType="image/x-pict"/>
  <Override PartName="/ppt/media/image3.png" ContentType="image/png"/>
  <Override PartName="/ppt/media/image5.pct" ContentType="image/x-pict"/>
  <Override PartName="/ppt/media/image6.pct" ContentType="image/x-pict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65E-CE80-4388-A2A9-8247DE78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1AE-312E-4E5C-A791-1F1D8F71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3210-1365-4806-AAF1-0B69CDD1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CA48-A7CA-4340-BD5B-703B0962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9942-ED6F-42C7-A6AF-385EB872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D32F-0A57-4627-B992-F4D8F7E6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D802-0D65-4CDD-B2C4-75DCEB50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6543-51DF-4C50-BC68-2D98A4B0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854F-1C20-4738-997E-7753EDD7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B6FB-F3A6-406D-ABDF-E0270826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EA7E-2485-43DE-92C1-3B18C9E3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045-1700-49FD-9376-2D26CA0D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1B1D-09E9-4BE7-B8D2-CBC345F9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3816-B9E3-43B8-86CE-89D034DE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F751-FD53-40CE-9743-BE22DEAD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127E-FAE7-4FCD-BAC2-1D579E60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38DF-E042-4D92-B068-2DE29C80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0AB-4509-4B8A-A3AD-B8CFAF0A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8CF3-3764-493D-A565-0E95F40C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ED8-865B-4263-9C17-A32B8C8C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F7E-DEFC-466C-A0E0-4255E70F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1DBA-3705-422B-8A52-888BDF67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115-15B7-43D5-9D16-8D87BB68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2E5F-1A54-41EE-BFFD-8C56C3D4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0CEC-8DD5-4F38-A5AA-D3516C9BB0D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D161-7CF0-4546-B165-E7BAC58160A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video" Target="file:///tmp/home/.config/libreoffice/4/user/gallery/Embedded%20Sound%201" TargetMode="External"/><Relationship Id="rId3" Type="http://schemas.microsoft.com/office/2007/relationships/media" Target="file:///tmp/home/.config/libreoffice/4/user/gallery/Embedded%20Sound%201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video" Target="file:///tmp/home/.config/libreoffice/4/user/gallery/Embedded%20Sound%202" TargetMode="External"/><Relationship Id="rId3" Type="http://schemas.microsoft.com/office/2007/relationships/media" Target="file:///tmp/home/.config/libreoffice/4/user/gallery/Embedded%20Sound%202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Blackmoor LET"/>
              </a:rPr>
              <a:t>Insect Bites and St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-8534520" y="-609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17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28840" y="41590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6039"/>
                </a:solidFill>
                <a:latin typeface="Arial"/>
              </a:rPr>
              <a:t>By: Alex S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34120" y="3733920"/>
            <a:ext cx="2971800" cy="2377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52280" y="632448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505320" y="411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 flipH="1" rot="10800000">
            <a:off x="2743200" y="0"/>
            <a:ext cx="2514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92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92"/>
                            </p:stCondLst>
                            <p:childTnLst>
                              <p:par>
                                <p:cTn id="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92"/>
                            </p:stCondLst>
                            <p:childTnLst>
                              <p:par>
                                <p:cTn id="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92"/>
                            </p:stCondLst>
                            <p:childTnLst>
                              <p:par>
                                <p:cTn id="16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Blackmoor LET"/>
              </a:rPr>
              <a:t>Fist Aid for Bi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0000"/>
                </a:solidFill>
                <a:latin typeface="Blackmoor LET"/>
              </a:rPr>
              <a:t>Wash the b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0000"/>
                </a:solidFill>
                <a:latin typeface="Blackmoor LET"/>
              </a:rPr>
              <a:t>Apply a special lotion for bite/b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406080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52280" y="62485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26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Blackmoor LET"/>
              </a:rPr>
              <a:t>First Aid for Insect S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3920" indent="-31356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0000"/>
                </a:solidFill>
                <a:latin typeface="Blackmoor LET"/>
              </a:rPr>
              <a:t>Remove the stinger by scraping against it with a credit card or fingern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39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0000"/>
                </a:solidFill>
                <a:latin typeface="Blackmoor LET"/>
              </a:rPr>
              <a:t>Apply ice or cold compresses to relieve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39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0000"/>
                </a:solidFill>
                <a:latin typeface="Blackmoor LET"/>
              </a:rPr>
              <a:t>Watch for allergic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638680" y="4191120"/>
            <a:ext cx="2543400" cy="1908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52280" y="62485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568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Blackmoor LET"/>
              </a:rPr>
              <a:t>Insects to stay away fr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Blackmoor LET"/>
              </a:rPr>
              <a:t>Brazilian Wandering Sp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Blackmoor LET"/>
              </a:rPr>
              <a:t>Africanized Honey B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Blackmoor LET"/>
              </a:rPr>
              <a:t>Asian Ho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Blackmoor LET"/>
              </a:rPr>
              <a:t>Siafu A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Blackmoor LET"/>
              </a:rPr>
              <a:t>Bullet 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937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2:53:51Z</dcterms:created>
  <dc:creator>kms kms</dc:creator>
  <dc:description/>
  <dc:language>en-US</dc:language>
  <cp:lastModifiedBy>Kraybill Campus LMS</cp:lastModifiedBy>
  <dcterms:modified xsi:type="dcterms:W3CDTF">2011-05-17T13:09:48Z</dcterms:modified>
  <cp:revision>6</cp:revision>
  <dc:subject/>
  <dc:title>Insect Bites and Stings</dc:title>
</cp:coreProperties>
</file>